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phone.wav" ContentType="audio/x-wav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527-E427-4B49-9D57-B7FCD0EF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CC3-6925-408B-AC92-E8B5DD5B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606-A10E-43BA-BE12-9D25E5CB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174-5865-4377-909B-58906D01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DF0-B066-4F1F-897A-29BB56E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E13-2CA4-401F-86D4-921D9A6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0DB-6E9D-4ED7-891D-819B10F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AE7-E060-4D11-BA52-F1CB105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B20-164F-4416-B385-B5EB308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6FB-5F06-4499-8450-BCBA957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4AB-277C-49D7-94AD-E64A81A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634-C110-439E-AF11-6EB656D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1022-C670-465A-AC0B-0B801ED9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hon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carbrake.wav" TargetMode="External"/><Relationship Id="rId4" Type="http://schemas.microsoft.com/office/2007/relationships/media" Target="file:///tmp/home/.config/libreoffice/4/user/gallery/carbrake.wav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10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acteristics of Living Things</a:t>
            </a:r>
            <a:endParaRPr b="0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94040" y="57913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Sherry Pew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arthx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57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752480"/>
            <a:ext cx="794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ing things are made of 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cell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uddy_flat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14920" cy="307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895480"/>
            <a:ext cx="5638680" cy="30481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ce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1828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things hav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ve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amilycar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105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things perform chemical activities. </a:t>
            </a:r>
            <a:r>
              <a:rPr b="0" lang="en-US" sz="4000" spc="-1" strike="noStrike">
                <a:solidFill>
                  <a:srgbClr val="ff4545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hemistrysign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56236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06380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things grow and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by1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1108080" cy="2639880"/>
          </a:xfrm>
          <a:prstGeom prst="rect">
            <a:avLst/>
          </a:prstGeom>
          <a:ln w="0">
            <a:noFill/>
          </a:ln>
        </p:spPr>
      </p:pic>
      <p:pic>
        <p:nvPicPr>
          <p:cNvPr id="54" name="swinging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2590920" cy="3124440"/>
          </a:xfrm>
          <a:prstGeom prst="rect">
            <a:avLst/>
          </a:prstGeom>
          <a:ln w="0">
            <a:noFill/>
          </a:ln>
        </p:spPr>
      </p:pic>
      <p:pic>
        <p:nvPicPr>
          <p:cNvPr id="55" name="coupleold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3005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838080"/>
            <a:ext cx="740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things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spo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a stimul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lk_phone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227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609480"/>
            <a:ext cx="74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things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produ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young-girl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1417680" cy="1679400"/>
          </a:xfrm>
          <a:prstGeom prst="rect">
            <a:avLst/>
          </a:prstGeom>
          <a:ln w="0">
            <a:noFill/>
          </a:ln>
        </p:spPr>
      </p:pic>
      <p:pic>
        <p:nvPicPr>
          <p:cNvPr id="60" name="young-girl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1417680" cy="1679760"/>
          </a:xfrm>
          <a:prstGeom prst="rect">
            <a:avLst/>
          </a:prstGeom>
          <a:ln w="0">
            <a:noFill/>
          </a:ln>
        </p:spPr>
      </p:pic>
      <p:pic>
        <p:nvPicPr>
          <p:cNvPr id="61" name="young-girl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1417680" cy="1679400"/>
          </a:xfrm>
          <a:prstGeom prst="rect">
            <a:avLst/>
          </a:prstGeom>
          <a:ln w="0">
            <a:noFill/>
          </a:ln>
        </p:spPr>
      </p:pic>
      <p:pic>
        <p:nvPicPr>
          <p:cNvPr id="62" name="tree1" descr=""/>
          <p:cNvPicPr/>
          <p:nvPr/>
        </p:nvPicPr>
        <p:blipFill>
          <a:blip r:embed="rId4"/>
          <a:stretch/>
        </p:blipFill>
        <p:spPr>
          <a:xfrm>
            <a:off x="246240" y="4343400"/>
            <a:ext cx="98100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tree1" descr=""/>
          <p:cNvPicPr/>
          <p:nvPr/>
        </p:nvPicPr>
        <p:blipFill>
          <a:blip r:embed="rId5"/>
          <a:stretch/>
        </p:blipFill>
        <p:spPr>
          <a:xfrm>
            <a:off x="1981080" y="434340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tree1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9810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447920"/>
            <a:ext cx="792504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59:05Z</dcterms:created>
  <dc:creator>Jefferson County Schools</dc:creator>
  <dc:description/>
  <dc:language>en-US</dc:language>
  <cp:lastModifiedBy>White Pine</cp:lastModifiedBy>
  <dcterms:modified xsi:type="dcterms:W3CDTF">1999-12-29T05:05:58Z</dcterms:modified>
  <cp:revision>17</cp:revision>
  <dc:subject/>
  <dc:title>PowerPoint Presentation</dc:title>
</cp:coreProperties>
</file>